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BB4-4C7C-4DC2-A3ED-E8EBDDCB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DF8-A384-4A9A-81C8-71882D2C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B5C-68C2-407D-AFD1-1969B4D4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1A2-D4DC-4D0A-9D0A-9D8D40EF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2E0-AC80-48AE-B65A-A947350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BDF-6129-44AD-9842-1E85CCD5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0AD-C96A-4F56-B3A4-86C9529E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802-DF3B-4581-B548-C8D2E578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F85-7B93-4557-86EE-0507A99B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FCA-CDEF-49DA-A617-84DBA7D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491-63F1-4085-AF3B-0DA91A6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56F-ABC6-4FD1-AA23-27B05122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552-DBD1-4DBF-AA79-B2A8D00268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0B Line segments and step func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Discrete and continuou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variable that can take all values (e.g. time, t = 11.3 s or height = 183.3 cm) is called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continuous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variable that cannot take all values (e.g. the number of people in this room = 26) is called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discrete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Real-life situations involving continuous data can often be modelled by line segment graphs or step graphs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If the data are discrete, the graph consists of points not joined together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B, Q.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B, Q.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B, Q.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B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B, Q.5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B, Q. 7, 10, 11, 12, 1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1:14:23Z</dcterms:created>
  <dc:creator>08843474</dc:creator>
  <dc:description/>
  <dc:language>en-US</dc:language>
  <cp:lastModifiedBy>08843474</cp:lastModifiedBy>
  <dcterms:modified xsi:type="dcterms:W3CDTF">2011-06-02T01:24:29Z</dcterms:modified>
  <cp:revision>1</cp:revision>
  <dc:subject/>
  <dc:title>10B Line segments and step functions</dc:title>
</cp:coreProperties>
</file>